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0AFB-5357-458A-A520-448165AF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DD8A-156E-42C2-BBAC-6EA34DF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AA30-EC85-497C-8755-0E30031D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8496-E15B-4595-B6A4-4524F021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9A28-DB6C-4A89-9348-D907EACC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2019-5746-439A-B75A-CD836899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DEA-DFE3-42A6-9721-B494CFFB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959A-BC80-4320-9731-62B1BCE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C6D-2BAE-447E-AACF-07BD95C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07C-3A43-4977-B34B-D666BDF7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EAAC-5D5C-43D0-98E8-E0A2CA0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25F9-8A4C-4E40-A58F-C178CB1A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F8EC-D049-4B73-8E23-5EAD0DA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01BD-99CE-4047-8A85-4095C4A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8EB1-CDB5-4861-9211-A368620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F1AC-9669-4F00-B46F-CDB70685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3F44-7EA3-46D0-82D8-7FA62760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EFF3-3366-425F-B83C-200F492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6E65-B247-494E-9570-F0B58F1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C745-2187-4AD9-98B8-26B28D4A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9F48-C493-489F-A6D5-224ADD0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7C4C-63C1-4A10-BBAB-8BB03D0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A88B-8A58-4E82-A06B-65ECA9F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971F-F9C0-4E6C-993B-ECCAA22E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B970-99CD-4E16-AD0D-E8E447FBE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9D9-2834-4E2B-BA28-325BEA3EE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. Chira Daniela M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ala cu clasele I-VIII Moldoven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. Clu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5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1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6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7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5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2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7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9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9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9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HANGE_ME</cp:lastModifiedBy>
  <dcterms:modified xsi:type="dcterms:W3CDTF">2010-06-17T02:27:37Z</dcterms:modified>
  <cp:revision>21</cp:revision>
  <dc:subject/>
  <dc:title>Triunghiul dreptunghic</dc:title>
</cp:coreProperties>
</file>